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E2D-B710-495D-A4D1-9B3F53B22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656-F692-45E1-833B-9753ADB05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0F6-2F5E-4D84-B7F2-545ABD08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0CB-6B9A-4BA3-9CEF-59599A8B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722-74E5-467A-B22E-7E863C2D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403-0AD3-43FC-B15E-8566074D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9580-386E-4C7B-8B86-64F3C720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A5E1-31BF-4CD6-B8B8-A6A7E3A0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1F86-BB6D-4FE4-9142-26A4DA3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A629-10D0-49E5-BBB5-D882412D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A2B7-829F-4226-B530-8825112E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6EC4-3C53-4CFD-9A46-FF9CDCF1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EC0B-43E5-4AE8-8033-3C5309E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7DC-0D61-437F-956E-FD1B1715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5C2F-21A5-4955-B99F-9EB7169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0B7-AFD5-46DE-A180-C6EA1279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EC8-CC4D-414C-B187-92B598C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43D-2657-499A-B2E5-AA42A4C9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5438-E8E5-433A-97B7-0577005A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DC6F-C9AF-49E3-BE63-4A548837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9CD4-C558-4B57-9CA7-982A2DF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D337-F116-4159-9B3A-4D7DEC19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6C35-024B-42BA-9F1F-84BE057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EE1B-117B-4703-A27A-2042CFA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830-F122-4080-9E53-B6D9BBE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6992-016D-443C-BFE8-4AB2B99F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F695-B57F-466F-AB40-BE5165C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AC92-BF23-4E08-8E34-F15CBE4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52B3-AD98-4BAA-9FD7-061DE56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E26A-4839-4574-B0E5-A70AEC7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4EC3-5FDC-40E9-8260-87737E64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D685-3243-40B6-9E5E-548751B9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A0A3-116E-4EF8-BCC9-48FFD27F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C54D-CDDB-4CA9-A1F0-B62A3A56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F12A5-7CCB-425B-A66D-E4656FE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F7E-C536-4DF2-96F3-5192162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5379-62CF-4AC8-8519-9534312F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EB56-AD76-4D47-8E86-3EC1D16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F6D9-A5C9-4315-AA18-8575A533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3EA5-47F7-425E-B206-84D070F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0E26-AE7E-4F2A-AA4E-959CDC4E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E35E-89AF-4FD0-A458-D8BC272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7235-149C-4163-B54E-E7E5E505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08BD-1065-40BB-BD53-79AF853B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4B00-3F7A-46CC-8D22-CA5371BD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F0B-41F0-4246-84B6-352B0A86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28F-0773-477C-A6CC-9CBF724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4C0-DB10-4E5C-9A22-938068C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154-5ED8-40AF-B49E-F2317B25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F78-05A0-40B3-8536-F1CBFB5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AA4F-282D-4477-9DAB-4B104838FA6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A15-5867-43F7-AD44-B3E2E912A7C6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6B94-D72D-4885-811C-64E36851BF2A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058-DB52-4FE3-86A3-5E85FB513718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5486400" y="44956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андер А. Э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Сыктывкар, 2010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ый прое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се красивое над нашими головам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4" descr=""/>
          <p:cNvPicPr/>
          <p:nvPr/>
        </p:nvPicPr>
        <p:blipFill>
          <a:blip r:embed="rId1"/>
          <a:stretch/>
        </p:blipFill>
        <p:spPr>
          <a:xfrm>
            <a:off x="384120" y="573120"/>
            <a:ext cx="8375760" cy="1365120"/>
          </a:xfrm>
          <a:prstGeom prst="rect">
            <a:avLst/>
          </a:prstGeom>
          <a:ln w="0">
            <a:noFill/>
          </a:ln>
        </p:spPr>
      </p:pic>
      <p:grpSp>
        <p:nvGrpSpPr>
          <p:cNvPr id="205" name="TextBox 5"/>
          <p:cNvGrpSpPr/>
          <p:nvPr/>
        </p:nvGrpSpPr>
        <p:grpSpPr>
          <a:xfrm>
            <a:off x="262080" y="1962000"/>
            <a:ext cx="8516880" cy="5992920"/>
            <a:chOff x="262080" y="1962000"/>
            <a:chExt cx="8516880" cy="5992920"/>
          </a:xfrm>
        </p:grpSpPr>
        <p:pic>
          <p:nvPicPr>
            <p:cNvPr id="206" name="TextBox 5" descr=""/>
            <p:cNvPicPr/>
            <p:nvPr/>
          </p:nvPicPr>
          <p:blipFill>
            <a:blip r:embed="rId2"/>
            <a:stretch/>
          </p:blipFill>
          <p:spPr>
            <a:xfrm>
              <a:off x="262080" y="1962000"/>
              <a:ext cx="8516880" cy="59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" y="2057400"/>
              <a:ext cx="8229600" cy="57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роблемный вопрос</a:t>
              </a:r>
              <a:r>
                <a:rPr b="0" lang="en-US" sz="2800" spc="-1" strike="noStrike">
                  <a:solidFill>
                    <a:srgbClr val="0070c0"/>
                  </a:solidFill>
                  <a:latin typeface="Verdana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небо голубое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у радуги 7 цветов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дно в озере кажется ближе, чем оно на самом деле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Почему река светится на солнце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Основопологающий вопрос</a:t>
              </a:r>
              <a:r>
                <a:rPr b="0" lang="en-US" sz="2800" spc="-1" strike="noStrike">
                  <a:solidFill>
                    <a:srgbClr val="0070c0"/>
                  </a:solidFill>
                  <a:latin typeface="Verdana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Verdana"/>
                </a:rPr>
                <a:t>Стоит ли верить своим глазам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949120"/>
            <a:ext cx="822960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ся различать оптические явления в природе с помощью наблюд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ся проводить опыты для выявления тех или иных оптических явлений в приро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акие природные явления связаны с геометрической оптикой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Ход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ходе проекта учащиеся разделятся на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нятия проходят в виде бесед и проведения опытов и наблюде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онце каждого занятия подводятся итоги и делается общий вывод по занят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4" descr=""/>
          <p:cNvPicPr/>
          <p:nvPr/>
        </p:nvPicPr>
        <p:blipFill>
          <a:blip r:embed="rId1"/>
          <a:stretch/>
        </p:blipFill>
        <p:spPr>
          <a:xfrm>
            <a:off x="360360" y="2279520"/>
            <a:ext cx="8265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Шандер</cp:lastModifiedBy>
  <dcterms:modified xsi:type="dcterms:W3CDTF">2010-06-07T12:35:0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